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8.png" ContentType="image/png"/>
  <Override PartName="/ppt/media/image5.gif" ContentType="image/gif"/>
  <Override PartName="/ppt/media/image14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0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9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F3D-9312-40D7-A1BC-A74DAA2C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3CA-0EDD-475F-8D72-530C1F73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125EA-C1F5-4042-86F9-42C63BB4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53F72-908B-4C82-A9E3-BAB9032A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23119-DC59-45C6-8DEA-A5817ABF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EFC18-FB7B-4B66-8D42-1A63EDC0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921E3-5FA0-4E94-B8AD-393817C6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E5870-C4E1-47FA-843B-1C9AC804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8DB32-9DE0-491A-B67B-BF360488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4399C-8753-46F2-B8E7-97F3A69B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3E25E-2E85-44EB-8474-AF35C431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5252E-4381-4B1C-AB2F-86BF9151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26D7-B2AD-430B-A751-44B6887A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8DA0C-9E1C-4E6C-ABB4-80550ACD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2E998-5521-4C61-B759-0B3DD718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4E54C-3D36-4776-916B-CAD1D273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A01B4-A9D7-4625-85B5-E7E66D32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9835C-EC5F-46B7-A12C-4DFE1552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AC0F7-B417-4B23-B5CE-5E847E67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B9471-711C-4FB9-9ADB-9D1B625D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4E3A7-D935-4067-BB14-8D161E66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57796-5D9B-435A-8711-18835488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15DC9-CE12-4735-B241-E03BC3A0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32E-19E2-4DBA-A201-52067735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0BAE3-3F64-434B-9651-5CFDB267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23427-DC19-4A13-9F19-11CD4F81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BB112-E6BD-4123-98C1-44519256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05C1A-2B7E-4790-A54C-C1290721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0C099-DD42-4EC6-8478-EA400F22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9E643-4C7A-4D9E-A976-3630E56D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68CA5-33A5-4310-A9D5-5B41B1FB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9C38D-D0F6-417A-84EA-6A907F02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C3EBB-4021-4D0B-810F-22B98B2C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82035-F10B-471D-8630-169C8EB6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7BE6-B8B4-413D-92F1-AAA82266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659BB-84C7-4CCC-9197-14C95480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A5D9B-4EEE-4097-931A-2294056C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E98B1-F162-41EA-924B-12433F69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7F453-7F0B-4F88-9514-B8508ACD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FB586-78B5-40C4-AB74-EFC08795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50DE2-5A54-4EEB-91F9-3623AB9E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CC430-AF62-4DB0-93C2-4EF0B637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16D9B-A572-4AD6-AB34-C3096B4E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F598E-3A57-4095-8584-1D21B966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D9FAD-57E0-44CE-8717-B53164DD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86BF-379D-4AE7-BA30-5A5A6885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F6A31-D7BC-4AE9-ABB4-45D4C305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40EAD-8D61-4375-BAB6-C0259899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9CC3C-DC6F-4429-8D70-5C9EB1D5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996E1-5865-428C-8847-1F4DFFCB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50EF0-BC6D-4E73-BB6B-0D765C4A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B4062-4E4F-4570-92F8-F6925C4E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9915F-9F83-4553-988C-CFF74F58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13E30-44BC-4D68-96D9-F1049794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5BAC0-3E4C-4408-ADD1-3BAD4DE0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1FC85-CC11-4391-B56E-56829CBE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6F60-D842-482D-935B-55FE6A85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0A80A-1130-49B7-88AF-B9EC2794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0FFD5-5787-415A-89A9-FC0B5D96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054BF-442A-4EFC-8B71-F342D6F8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2F47F-BE1E-4560-B48D-5D2BF64E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00FAD-A231-4E7E-A288-D3B23022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86D82-95D9-4F0A-9ABA-A2886BBB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5709B-867D-4FDF-B97E-E951D89A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ECFBF1-0F20-4106-93BF-9675890C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BA9510-4CCA-40EB-A23D-EB3932BE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5D6AF6-950B-4104-8CE2-36924425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FD94-FBBA-4A5B-97C2-4CC7DE90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44EE2-745C-4686-9CA6-063B7F54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0D6B3-A212-4E72-80FC-A93A704F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CCF4A5-16F4-42F5-B32C-151712A8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50A93-F029-4BBF-BD27-15A9F0C3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B518B1-702A-42D4-B735-081B3D03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525EC8-80C9-444F-AE85-35FBCA7D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7DD29-E388-4D36-A5B7-AEE8AD3C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FCE83E-0759-4BD5-B5C7-C4DD2780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45B275-A559-4AAA-8AC6-40B93974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4C86FB-6484-43AC-96C9-5F5D9CAB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F505-1544-4D43-9DB3-C959D933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EC416-53D0-4F19-9160-B2FE04D2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FB40F1-ED56-4E71-A831-208F0BE4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828A92-8F63-405F-A418-C6F302F8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454172-56FB-4565-976E-A4D7B722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0C85B-36AF-4029-9F0F-76914090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8166CE-C576-4DF4-A894-E78848CB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59BF2C-4404-43E9-8B6B-2BE4B6FE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D1E3A0-DF98-462C-9FFC-3AF52065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29BF4-24E4-4356-A9DB-A5611D20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E1A469-89E6-4ACD-AA79-82E7D276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BE75-0924-4A7A-B838-2979CC8B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79F64C-2745-4611-8A79-495ACBCA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2C2C4-DE28-4218-83F0-D189F7CC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EC70E1-BF4B-4134-88A9-47D2EBF8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A2B9B1-86E6-40F9-92D9-A503539E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81763F-99F6-443A-B0DC-31BEBFE7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9714A1-3814-4D2B-B6AE-19EA182C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0FBCCB-4AED-46D7-84BE-E1412FB5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8844F-D2A5-4D17-A334-F3B1E3DE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1F6047-20A0-4682-B4BA-2523E3C3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480757-473A-4B64-8EB0-3618037A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0F7D-BC5E-4E44-8942-83D7BB92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79AEF1-4801-4252-A9AB-EC0D55C0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76F86A-C544-4E68-B028-5E266B5A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7A58EC-59C4-4D6C-9121-1795F9DA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AD77E8-03C2-4A72-99DB-0FCC6FEE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08DAFD-F537-48F7-B1A4-01A29B60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4BBC57-808B-4E93-8976-F19CFC0E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4FB18A-8A41-4A77-9272-0C584D0C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A2D377-A976-4121-9B4D-E35BB3F9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0207CE-877D-40F8-A3BA-49DC0AA3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D3349A-1936-430E-A536-CB85AB68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B66-4E62-41DE-B5FE-BEA0CEEC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2EF4-E5FB-43B6-8DD8-5DB77D93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E576D0-B77F-4B1F-B0B9-570F8302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A72355-9FCC-4F69-84CE-F5B3341F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7638B6-EDDE-4405-B28F-7D611D0E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8A93DE-D57C-4E55-9657-1A10D8C2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79320D-9C5D-45AD-B825-82C3DF6E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D4D805-470E-475C-82DE-9FBBDA49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192EA8-A66E-43AD-ACD7-CFC80600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24FD1E-A863-4D66-9410-E3729A37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7F65D-17F6-40AC-AAE2-42E47B1D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EE21E6-727F-417F-92BE-5B97B372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C365-2317-4A1E-AD9B-6DAEDA27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26DD03-2293-468C-AAE3-9BFBBC92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B591E6-7D87-4990-BE7C-F3663C59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D49911-1072-4BF3-B54C-D1E87582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ACDC82-83A7-461D-BDCA-2B02471C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29C4A3-357B-4E0A-9D1E-494CB002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17ED66-1186-4769-AAE5-5FC4A947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059753-4AC7-4A2F-B424-41A1CE3B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832D3F-41FB-4D70-B7B6-4633821D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4BA14-16FD-485E-AF9B-A447ED6B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321385-F2F7-4ADB-B8AB-B3B174F6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CDB2-17DB-42D3-921A-709D4F5F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F23E48-D20C-4881-9DD7-D668C409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69346B-C7D7-4439-839B-0775F011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814876-C542-4250-A242-A5E9B7F6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27AFC0-4139-41CA-B396-E5E75344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04AA68-5233-4015-BEC3-06FBE5F4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7A0B4B-85D2-4012-B7FA-B47708C4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B0A708-EB0D-43C1-9E41-BAE95C6E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6BC34-F459-4A03-AB59-144CA3B2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D5980D-015F-4B50-8A20-CEFE19F9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176712-414C-47BD-BC50-A06F3760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03E5-76F2-4623-B2D2-DDC1FCC3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7CCDAC-A6F1-475A-92ED-BE3494E1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20AD8F-BEEB-44B0-8BF1-C3F34723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5A15A8-F7E9-4FB5-BB11-951AB37A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662671-A194-4697-87F0-0CD21EA6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3E1803-15D0-4DC8-993B-312B27B1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C1F4DE-1995-4E93-8944-7681BFFB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0E4BAB-0679-4FBA-8950-BBEE06F7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4056FB-BA1C-4C44-8EF0-20E895C8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36F644-3BF5-4E6B-9231-951968EB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F2A28-D790-41AF-B461-346F3A12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FFD1-A890-429F-B2C4-DC4F9CB8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FB2C0B-DABF-4E0F-8143-E5C38838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516B8-0190-4BC1-9C1C-E711EBEB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27C5B-AEF7-449E-8BF6-837E69EA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543F9-4629-4F07-BED2-F4145695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15FFD-B1B4-42E8-A794-5D9614A2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E2DDA-3AFB-40CA-9F21-C0ADCB27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9CD-BC77-4971-868A-D727C027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A3685-632C-4950-91C5-9A233E8E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87D95-6572-43D5-9172-CAD55F28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EF72C-7032-435D-8EE7-1AFB8962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20A2C-C71B-4C4E-AE19-C52D58D5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0E51-32DB-4E4E-BA23-865D3EBB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47DF5-BCF9-4C13-AEE5-DDBA8FBD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C6C3D-6A1A-45FE-8743-6E194AEF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DC533-6621-45BF-BCD2-4B3206C2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B2B5F-3C65-48AA-B93D-ADCDBB64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00BEF-5367-456A-8996-016D2E51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46A-E2F2-4B48-B50D-07CACB8A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4CD79-95B9-453B-BAA8-96852C71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460C1-AAB9-432D-A1EA-95DDD7EA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D9BA7-7F07-45D4-84F4-8B9755E4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736DB-E5AB-477E-A780-6065A43E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C1EEA-6D00-42A5-86DC-83FF32DA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7CFE2-768D-4B41-87E2-75BB4DEE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BE4E7-440F-4B5B-92B9-876E15BE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C4904-730E-4BD2-AF19-6B6A8CB4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69078-7FFB-4A48-8290-5D34CF41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BD82A-AEF5-422B-927F-7ABCC49B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858-92F0-4C0D-A401-05BDB547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EA3AD-75EB-41F5-A483-08793C43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855FF-05BF-4C14-B1F8-71C0EFEE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3B001-9BCC-4923-88F5-E362F2A5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DBC31-B840-41CE-8AB8-F7145216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05DB8-23EE-447F-A29A-A6B3C31E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355CF-DDEE-4F84-9F66-E9EB9F82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2C5C6-BEC6-4CAF-937A-69AF02A0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C91D0-DF75-47E5-A55C-9638EC4D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0D6C0-07D8-4D8F-AEF2-3EC42E5F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60356-42A1-479F-B738-CB92C07F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E5D-05F4-40F4-927E-1D28543C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EC2F6-7B01-4CDD-844D-AE0C4AE4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A88B6-3E2D-4EFC-8B4A-1E31A9CF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5ED4C-2F65-45A4-94E8-B8D68C07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43ECF-D8F8-4445-9FC8-81789BA4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5EAAC-BBD6-4267-A1DA-5E1DB930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D0413-7A12-4A28-81F4-BA0B46A9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6F982-935A-42B0-B0A2-9778E9AE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F3118-5F71-4654-937D-9DC9EEB5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6CBCC-655B-4554-BC43-2FB3CAC0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66763-5932-4E40-A6AF-8A597468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A00-21B8-4A66-BF4A-BA0C27B5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4109A-3280-46C1-846E-5F897198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FFD87-B3FD-43E2-99AB-CB7603B2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850A2-610F-4575-9740-71A75DE2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0D714-3639-48D7-BBBB-C348E1AA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E58A9-93C1-4F2B-B80E-B375D064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0E27A-0AD6-4C26-B19E-EFA5D74B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4E676-5A50-47F0-AA49-FEF1281A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22EB1-F00D-41D9-9810-487C01F4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2985D-9CE9-4818-BFEE-0795C549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8F76C-C7E8-444C-A64D-604DC464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4DC-AE48-45CE-B820-EA693403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39062-4AFA-43DC-9A18-4AA31D9D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2C8C0-D4F4-406A-B254-29CBCCE3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4E3F3-FBFB-4EF9-9F1F-ECA3A232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7AEAB-4514-4255-8A6F-40599B54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62265-4C14-4111-8245-A2A2D81E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58BD5-63C8-48FF-82E5-2C7CD35E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EBFD4-EE00-4239-984B-BFAB7C53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A0156-4698-4DF3-99A8-F1E02CAE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BA1C7-8730-455D-BDE7-B3DECE1B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42581-AF5F-4688-AFD9-6F8207C8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351C-7408-4DA3-A4DE-D16BC9E9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4F70D-7AC5-4392-A3A8-B7B70AAC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C022A-4E7C-4421-BC8A-A523E3AD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EE7A4-3F92-464C-9D3D-79A2CF41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96102-B521-4C29-8B67-0E083689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4174B-1B95-4C2B-A69E-6B2F6CB2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B68A1-8A3A-418A-88A2-7BD0D260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DCD9D-9E7B-474E-9B15-0E456D7A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285F9-6CA4-4D47-AC26-CC155BD4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5B668-C13E-42D6-A058-E8C2696B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02871-6C40-43D7-8BB8-BB7D79E0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86B7-9873-4415-84A2-31425A142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1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881F-34C1-464E-8EBE-248673F3F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59b1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59b1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BEE5-EEAF-4DCC-99B6-E905F705DD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69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59b1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59b1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CC6B-425A-48FA-89A7-BDCA1101995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716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59b1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59b1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5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760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763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3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9E0B-7618-4704-B7FB-B23E7985ADA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0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1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sldNum" idx="4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9145-A908-40CB-9265-F5ACD366959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5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9B1B-8CEF-4840-B5B8-02C5AC313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6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7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9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1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E418-7E5E-4D81-870D-0E31DB1C4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AD56-4395-4C64-9201-F7EB510DC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068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069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5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076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1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7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9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100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1161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1341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7EED-7A7E-45BB-BA30-E5FABD4AF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1351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67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3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 type="dt" idx="55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 type="ftr" idx="56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 type="sldNum" idx="57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1643-3192-4B2A-BFED-79EF43014F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EC7E-AA4A-49D8-A129-88A3456EA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dt" idx="58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 type="ftr" idx="59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 type="sldNum" idx="60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9DDF-AC0E-4A59-9D37-58936CFFCB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5C1B-CC36-47F6-9BD2-633D7B1D65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5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6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F22A-345A-490D-ABA1-4267E6240D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0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5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8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8383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9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868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1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8a8a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c4a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e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9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4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c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8a8a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690D-8D12-42BE-B2C6-05CC45B3C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9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54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8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8383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e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49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8686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1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8a8a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c4a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3e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6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49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64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c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8a8a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2B28-A251-44FB-9593-28077BF93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7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40CB-BAF2-48CD-9944-20B9BB511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D247-D76B-49D5-93E9-98C5E5E80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6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CC1D-AD3D-4747-ACD3-702AFA01E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0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6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Биология</a:t>
            </a:r>
            <a:br>
              <a:rPr sz="4400"/>
            </a:br>
            <a:r>
              <a:rPr b="0" lang="en-US" sz="3200" spc="-1" strike="noStrike">
                <a:solidFill>
                  <a:srgbClr val="404176"/>
                </a:solidFill>
                <a:latin typeface="Times New Roman"/>
              </a:rPr>
              <a:t>Человек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8  класс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7740720" y="5013360"/>
            <a:ext cx="952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Гипофиз- « дирижер» эндокринных желез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32" name="" descr=""/>
          <p:cNvPicPr/>
          <p:nvPr/>
        </p:nvPicPr>
        <p:blipFill>
          <a:blip r:embed="rId1"/>
          <a:stretch/>
        </p:blipFill>
        <p:spPr>
          <a:xfrm>
            <a:off x="971640" y="1139760"/>
            <a:ext cx="7129440" cy="5718240"/>
          </a:xfrm>
          <a:prstGeom prst="rect">
            <a:avLst/>
          </a:prstGeom>
          <a:ln w="0">
            <a:noFill/>
          </a:ln>
        </p:spPr>
      </p:pic>
      <p:sp>
        <p:nvSpPr>
          <p:cNvPr id="1533" name=""/>
          <p:cNvSpPr/>
          <p:nvPr/>
        </p:nvSpPr>
        <p:spPr>
          <a:xfrm>
            <a:off x="7093080" y="622620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м. Анимации №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Гипофиз.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Гормон роста(соматотропин). Гиперфункция -гигантизм. Гипофункция - карликовость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5" name="">
            <a:hlinkClick r:id="rId1" action="ppaction://hlinksldjump"/>
          </p:cNvPr>
          <p:cNvSpPr/>
          <p:nvPr/>
        </p:nvSpPr>
        <p:spPr>
          <a:xfrm>
            <a:off x="8028000" y="6021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1233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64" h="21600">
                <a:moveTo>
                  <a:pt x="13437" y="14281"/>
                </a:moveTo>
                <a:lnTo>
                  <a:pt x="13437" y="12323"/>
                </a:lnTo>
                <a:cubicBezTo>
                  <a:pt x="13437" y="11496"/>
                  <a:pt x="13768" y="10800"/>
                  <a:pt x="14369" y="10800"/>
                </a:cubicBezTo>
                <a:cubicBezTo>
                  <a:pt x="15500" y="10800"/>
                  <a:pt x="16396" y="9434"/>
                  <a:pt x="16396" y="7849"/>
                </a:cubicBezTo>
                <a:cubicBezTo>
                  <a:pt x="16396" y="5534"/>
                  <a:pt x="14543" y="3794"/>
                  <a:pt x="12332" y="3794"/>
                </a:cubicBezTo>
                <a:cubicBezTo>
                  <a:pt x="10121" y="3794"/>
                  <a:pt x="8450" y="5534"/>
                  <a:pt x="8450" y="7849"/>
                </a:cubicBezTo>
                <a:lnTo>
                  <a:pt x="10304" y="7849"/>
                </a:lnTo>
                <a:cubicBezTo>
                  <a:pt x="10304" y="6709"/>
                  <a:pt x="11226" y="5821"/>
                  <a:pt x="12332" y="5821"/>
                </a:cubicBezTo>
                <a:cubicBezTo>
                  <a:pt x="13437" y="5821"/>
                  <a:pt x="14369" y="6709"/>
                  <a:pt x="14369" y="7849"/>
                </a:cubicBezTo>
                <a:cubicBezTo>
                  <a:pt x="14369" y="8589"/>
                  <a:pt x="13899" y="9320"/>
                  <a:pt x="13437" y="9320"/>
                </a:cubicBezTo>
                <a:cubicBezTo>
                  <a:pt x="12332" y="9320"/>
                  <a:pt x="11226" y="10800"/>
                  <a:pt x="11226" y="12323"/>
                </a:cubicBezTo>
                <a:lnTo>
                  <a:pt x="11226" y="1428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6" name="" descr=""/>
          <p:cNvPicPr/>
          <p:nvPr/>
        </p:nvPicPr>
        <p:blipFill>
          <a:blip r:embed="rId2"/>
          <a:stretch/>
        </p:blipFill>
        <p:spPr>
          <a:xfrm>
            <a:off x="2771640" y="1341360"/>
            <a:ext cx="3816360" cy="532764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</p:spTree>
  </p:cSld>
  <p:transition>
    <p:cover dir="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7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424400" cy="511344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pic>
        <p:nvPicPr>
          <p:cNvPr id="1538" name="" descr=""/>
          <p:cNvPicPr/>
          <p:nvPr/>
        </p:nvPicPr>
        <p:blipFill>
          <a:blip r:embed="rId2"/>
          <a:stretch/>
        </p:blipFill>
        <p:spPr>
          <a:xfrm>
            <a:off x="4788000" y="4005360"/>
            <a:ext cx="3960720" cy="261936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1539" name=""/>
          <p:cNvSpPr/>
          <p:nvPr/>
        </p:nvSpPr>
        <p:spPr>
          <a:xfrm>
            <a:off x="5364000" y="260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кромег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859280" y="907920"/>
            <a:ext cx="3889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иперфункция гормона роста у взрослого человека: увеличение кистей, стоп, костей лицевого черепа, носа, ушей, языка, внутренних органов, грудной клетки. Развивается кифоз, суставы деформирую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1" name=""/>
          <p:cNvGraphicFramePr/>
          <p:nvPr/>
        </p:nvGraphicFramePr>
        <p:xfrm>
          <a:off x="0" y="476280"/>
          <a:ext cx="9144000" cy="5703840"/>
        </p:xfrm>
        <a:graphic>
          <a:graphicData uri="http://schemas.openxmlformats.org/drawingml/2006/table">
            <a:tbl>
              <a:tblPr/>
              <a:tblGrid>
                <a:gridCol w="1440000"/>
                <a:gridCol w="1296720"/>
                <a:gridCol w="1941480"/>
                <a:gridCol w="2233800"/>
                <a:gridCol w="223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м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нор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перфунк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пофунк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поф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м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уе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гант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ромегал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у взрослы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карликовость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итовид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желу-дочна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почечн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2" name=""/>
          <p:cNvSpPr/>
          <p:nvPr/>
        </p:nvSpPr>
        <p:spPr>
          <a:xfrm>
            <a:off x="879480" y="-53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>
            <a:hlinkClick r:id="rId1" action="ppaction://hlinksldjump"/>
          </p:cNvPr>
          <p:cNvSpPr/>
          <p:nvPr/>
        </p:nvSpPr>
        <p:spPr>
          <a:xfrm>
            <a:off x="781200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21" h="21600">
                <a:moveTo>
                  <a:pt x="12804" y="7493"/>
                </a:moveTo>
                <a:lnTo>
                  <a:pt x="16312" y="7493"/>
                </a:lnTo>
                <a:lnTo>
                  <a:pt x="16312" y="12828"/>
                </a:lnTo>
                <a:cubicBezTo>
                  <a:pt x="16312" y="13751"/>
                  <a:pt x="17112" y="14482"/>
                  <a:pt x="18148" y="14482"/>
                </a:cubicBezTo>
                <a:lnTo>
                  <a:pt x="19811" y="14482"/>
                </a:lnTo>
                <a:cubicBezTo>
                  <a:pt x="20846" y="14482"/>
                  <a:pt x="21647" y="13751"/>
                  <a:pt x="21647" y="12828"/>
                </a:cubicBezTo>
                <a:lnTo>
                  <a:pt x="21647" y="7493"/>
                </a:lnTo>
                <a:lnTo>
                  <a:pt x="19811" y="7493"/>
                </a:lnTo>
                <a:lnTo>
                  <a:pt x="23318" y="3985"/>
                </a:lnTo>
                <a:lnTo>
                  <a:pt x="26991" y="7493"/>
                </a:lnTo>
                <a:lnTo>
                  <a:pt x="25155" y="7493"/>
                </a:lnTo>
                <a:lnTo>
                  <a:pt x="25155" y="12828"/>
                </a:lnTo>
                <a:cubicBezTo>
                  <a:pt x="25155" y="15596"/>
                  <a:pt x="22578" y="18155"/>
                  <a:pt x="19811" y="18155"/>
                </a:cubicBezTo>
                <a:lnTo>
                  <a:pt x="18148" y="18155"/>
                </a:lnTo>
                <a:cubicBezTo>
                  <a:pt x="15380" y="18155"/>
                  <a:pt x="12804" y="15596"/>
                  <a:pt x="1280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Щитовидная желез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45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46580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Щитовидная железа.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Гормон –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тироксин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для его образования необходим йод), гиперфункция -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базедова болезнь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увеличение щитовидной железы, повышенная возбудимость, повышение температуры тела, усиление работы сердца, уменьшение веса тела, пучеглазость. При недостатке йода в почве, воде щитовидная железа разрастается( зоб) для выработки нужного кол-ва тироксина( эндемический зоб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47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3168720" cy="3960720"/>
          </a:xfrm>
          <a:prstGeom prst="rect">
            <a:avLst/>
          </a:prstGeom>
          <a:ln w="0">
            <a:noFill/>
          </a:ln>
        </p:spPr>
      </p:pic>
      <p:sp>
        <p:nvSpPr>
          <p:cNvPr id="1548" name=""/>
          <p:cNvSpPr/>
          <p:nvPr/>
        </p:nvSpPr>
        <p:spPr>
          <a:xfrm>
            <a:off x="947520" y="6375240"/>
            <a:ext cx="26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азедова болез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340960" y="6375240"/>
            <a:ext cx="25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ндемический зо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">
            <a:hlinkClick r:id="rId2" action="ppaction://hlinksldjump"/>
          </p:cNvPr>
          <p:cNvSpPr/>
          <p:nvPr/>
        </p:nvSpPr>
        <p:spPr>
          <a:xfrm>
            <a:off x="838836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1178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576" h="21600">
                <a:moveTo>
                  <a:pt x="12893" y="14281"/>
                </a:moveTo>
                <a:lnTo>
                  <a:pt x="12893" y="12323"/>
                </a:lnTo>
                <a:cubicBezTo>
                  <a:pt x="12893" y="11496"/>
                  <a:pt x="13224" y="10800"/>
                  <a:pt x="13825" y="10800"/>
                </a:cubicBezTo>
                <a:cubicBezTo>
                  <a:pt x="14956" y="10800"/>
                  <a:pt x="15853" y="9434"/>
                  <a:pt x="15853" y="7849"/>
                </a:cubicBezTo>
                <a:cubicBezTo>
                  <a:pt x="15853" y="5534"/>
                  <a:pt x="13999" y="3794"/>
                  <a:pt x="11788" y="3794"/>
                </a:cubicBezTo>
                <a:cubicBezTo>
                  <a:pt x="9577" y="3794"/>
                  <a:pt x="7906" y="5534"/>
                  <a:pt x="7906" y="7849"/>
                </a:cubicBezTo>
                <a:lnTo>
                  <a:pt x="9760" y="7849"/>
                </a:lnTo>
                <a:cubicBezTo>
                  <a:pt x="9760" y="6709"/>
                  <a:pt x="10683" y="5821"/>
                  <a:pt x="11788" y="5821"/>
                </a:cubicBezTo>
                <a:cubicBezTo>
                  <a:pt x="12893" y="5821"/>
                  <a:pt x="13825" y="6709"/>
                  <a:pt x="13825" y="7849"/>
                </a:cubicBezTo>
                <a:cubicBezTo>
                  <a:pt x="13825" y="8589"/>
                  <a:pt x="13355" y="9320"/>
                  <a:pt x="12893" y="9320"/>
                </a:cubicBezTo>
                <a:cubicBezTo>
                  <a:pt x="11788" y="9320"/>
                  <a:pt x="10683" y="10800"/>
                  <a:pt x="10683" y="12323"/>
                </a:cubicBezTo>
                <a:lnTo>
                  <a:pt x="10683" y="1428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1" name="" descr=""/>
          <p:cNvPicPr/>
          <p:nvPr/>
        </p:nvPicPr>
        <p:blipFill>
          <a:blip r:embed="rId3"/>
          <a:stretch/>
        </p:blipFill>
        <p:spPr>
          <a:xfrm>
            <a:off x="5148360" y="2492280"/>
            <a:ext cx="3024000" cy="3889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2" name=""/>
          <p:cNvGraphicFramePr/>
          <p:nvPr/>
        </p:nvGraphicFramePr>
        <p:xfrm>
          <a:off x="0" y="476280"/>
          <a:ext cx="9144000" cy="5703840"/>
        </p:xfrm>
        <a:graphic>
          <a:graphicData uri="http://schemas.openxmlformats.org/drawingml/2006/table">
            <a:tbl>
              <a:tblPr/>
              <a:tblGrid>
                <a:gridCol w="1440000"/>
                <a:gridCol w="1296720"/>
                <a:gridCol w="1941480"/>
                <a:gridCol w="2233800"/>
                <a:gridCol w="223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м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нор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перфунк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пофунк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поф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м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уе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гант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ромегал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у взрослы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карликовость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итовид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р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исления и обмена в-в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 и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зедов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ез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у взрослы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микседема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( у взрослы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кретин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у дете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желу-дочна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почечн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3" name=""/>
          <p:cNvSpPr/>
          <p:nvPr/>
        </p:nvSpPr>
        <p:spPr>
          <a:xfrm>
            <a:off x="879480" y="-53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">
            <a:hlinkClick r:id="rId1" action="ppaction://hlinksldjump"/>
          </p:cNvPr>
          <p:cNvSpPr/>
          <p:nvPr/>
        </p:nvSpPr>
        <p:spPr>
          <a:xfrm>
            <a:off x="7956720" y="6308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66" h="21600">
                <a:moveTo>
                  <a:pt x="16326" y="7493"/>
                </a:moveTo>
                <a:lnTo>
                  <a:pt x="19834" y="7493"/>
                </a:lnTo>
                <a:lnTo>
                  <a:pt x="19834" y="12828"/>
                </a:lnTo>
                <a:cubicBezTo>
                  <a:pt x="19834" y="13751"/>
                  <a:pt x="20635" y="14482"/>
                  <a:pt x="21670" y="14482"/>
                </a:cubicBezTo>
                <a:lnTo>
                  <a:pt x="23333" y="14482"/>
                </a:lnTo>
                <a:cubicBezTo>
                  <a:pt x="24369" y="14482"/>
                  <a:pt x="25169" y="13751"/>
                  <a:pt x="25169" y="12828"/>
                </a:cubicBezTo>
                <a:lnTo>
                  <a:pt x="25169" y="7493"/>
                </a:lnTo>
                <a:lnTo>
                  <a:pt x="23333" y="7493"/>
                </a:lnTo>
                <a:lnTo>
                  <a:pt x="26840" y="3985"/>
                </a:lnTo>
                <a:lnTo>
                  <a:pt x="30513" y="7493"/>
                </a:lnTo>
                <a:lnTo>
                  <a:pt x="28677" y="7493"/>
                </a:lnTo>
                <a:lnTo>
                  <a:pt x="28677" y="12828"/>
                </a:lnTo>
                <a:cubicBezTo>
                  <a:pt x="28677" y="15596"/>
                  <a:pt x="26101" y="18155"/>
                  <a:pt x="23333" y="18155"/>
                </a:cubicBezTo>
                <a:lnTo>
                  <a:pt x="21670" y="18155"/>
                </a:lnTo>
                <a:cubicBezTo>
                  <a:pt x="18903" y="18155"/>
                  <a:pt x="16326" y="15596"/>
                  <a:pt x="1632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Поджелудочная железа-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железа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смешанной секреции</a:t>
            </a:r>
            <a:br>
              <a:rPr sz="36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Гормон-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инсулин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, гипофункция-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ахарный диабет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возрастание кол-ва глюкозы в крови, сахарное мочеиспускание, слабость, снижение иммунитета, поражение кожи, органов зрения и др. органов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5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2349360"/>
            <a:ext cx="3774960" cy="4319640"/>
          </a:xfrm>
          <a:prstGeom prst="rect">
            <a:avLst/>
          </a:prstGeom>
          <a:ln w="0">
            <a:noFill/>
          </a:ln>
        </p:spPr>
      </p:pic>
      <p:pic>
        <p:nvPicPr>
          <p:cNvPr id="1557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4500720" y="2347920"/>
            <a:ext cx="431928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Функция инсулин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59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810240" cy="2473200"/>
          </a:xfrm>
          <a:prstGeom prst="rect">
            <a:avLst/>
          </a:prstGeom>
          <a:ln w="0">
            <a:noFill/>
          </a:ln>
        </p:spPr>
      </p:pic>
      <p:sp>
        <p:nvSpPr>
          <p:cNvPr id="1560" name=""/>
          <p:cNvSpPr/>
          <p:nvPr/>
        </p:nvSpPr>
        <p:spPr>
          <a:xfrm>
            <a:off x="826920" y="5445000"/>
            <a:ext cx="151308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сул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924360" y="5805360"/>
            <a:ext cx="15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6569280" y="6087960"/>
            <a:ext cx="1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1618920" y="4149720"/>
            <a:ext cx="115236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6804000" y="5734080"/>
            <a:ext cx="1297080" cy="57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ликог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5076720" y="4437000"/>
            <a:ext cx="2016360" cy="107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ч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2411280" y="5013360"/>
            <a:ext cx="266544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580000" y="6093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H="1">
            <a:off x="4642920" y="5300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6877080" y="537372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">
            <a:hlinkClick r:id="rId2" action="ppaction://hlinksldjump"/>
          </p:cNvPr>
          <p:cNvSpPr/>
          <p:nvPr/>
        </p:nvSpPr>
        <p:spPr>
          <a:xfrm>
            <a:off x="838836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1178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576" h="21600">
                <a:moveTo>
                  <a:pt x="12893" y="14281"/>
                </a:moveTo>
                <a:lnTo>
                  <a:pt x="12893" y="12323"/>
                </a:lnTo>
                <a:cubicBezTo>
                  <a:pt x="12893" y="11496"/>
                  <a:pt x="13224" y="10800"/>
                  <a:pt x="13825" y="10800"/>
                </a:cubicBezTo>
                <a:cubicBezTo>
                  <a:pt x="14956" y="10800"/>
                  <a:pt x="15853" y="9434"/>
                  <a:pt x="15853" y="7849"/>
                </a:cubicBezTo>
                <a:cubicBezTo>
                  <a:pt x="15853" y="5534"/>
                  <a:pt x="13999" y="3794"/>
                  <a:pt x="11788" y="3794"/>
                </a:cubicBezTo>
                <a:cubicBezTo>
                  <a:pt x="9577" y="3794"/>
                  <a:pt x="7906" y="5534"/>
                  <a:pt x="7906" y="7849"/>
                </a:cubicBezTo>
                <a:lnTo>
                  <a:pt x="9760" y="7849"/>
                </a:lnTo>
                <a:cubicBezTo>
                  <a:pt x="9760" y="6709"/>
                  <a:pt x="10683" y="5821"/>
                  <a:pt x="11788" y="5821"/>
                </a:cubicBezTo>
                <a:cubicBezTo>
                  <a:pt x="12893" y="5821"/>
                  <a:pt x="13825" y="6709"/>
                  <a:pt x="13825" y="7849"/>
                </a:cubicBezTo>
                <a:cubicBezTo>
                  <a:pt x="13825" y="8589"/>
                  <a:pt x="13355" y="9320"/>
                  <a:pt x="12893" y="9320"/>
                </a:cubicBezTo>
                <a:cubicBezTo>
                  <a:pt x="11788" y="9320"/>
                  <a:pt x="10683" y="10800"/>
                  <a:pt x="10683" y="12323"/>
                </a:cubicBezTo>
                <a:lnTo>
                  <a:pt x="10683" y="14281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1" name=""/>
          <p:cNvGraphicFramePr/>
          <p:nvPr/>
        </p:nvGraphicFramePr>
        <p:xfrm>
          <a:off x="0" y="476280"/>
          <a:ext cx="9144000" cy="5977080"/>
        </p:xfrm>
        <a:graphic>
          <a:graphicData uri="http://schemas.openxmlformats.org/drawingml/2006/table">
            <a:tbl>
              <a:tblPr/>
              <a:tblGrid>
                <a:gridCol w="1440000"/>
                <a:gridCol w="1296720"/>
                <a:gridCol w="1941480"/>
                <a:gridCol w="2233800"/>
                <a:gridCol w="223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м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нор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перфунк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пофунк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поф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м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уе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гант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ромегал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у взрослы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карликовость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итовид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р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исления и обмена в-в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 и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зедов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ез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у взрослы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микседема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( у взрослы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кретин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у дете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желу-дочна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сул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держива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оя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глюкозы в кров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ахарн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аб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почечн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2" name=""/>
          <p:cNvSpPr/>
          <p:nvPr/>
        </p:nvSpPr>
        <p:spPr>
          <a:xfrm>
            <a:off x="879480" y="-53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">
            <a:hlinkClick r:id="rId1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7493"/>
                </a:moveTo>
                <a:lnTo>
                  <a:pt x="8175" y="7493"/>
                </a:lnTo>
                <a:lnTo>
                  <a:pt x="8175" y="12828"/>
                </a:lnTo>
                <a:cubicBezTo>
                  <a:pt x="8175" y="13751"/>
                  <a:pt x="8976" y="14482"/>
                  <a:pt x="10011" y="14482"/>
                </a:cubicBezTo>
                <a:lnTo>
                  <a:pt x="11674" y="14482"/>
                </a:lnTo>
                <a:cubicBezTo>
                  <a:pt x="12709" y="14482"/>
                  <a:pt x="13510" y="13751"/>
                  <a:pt x="13510" y="12828"/>
                </a:cubicBezTo>
                <a:lnTo>
                  <a:pt x="13510" y="7493"/>
                </a:lnTo>
                <a:lnTo>
                  <a:pt x="11674" y="7493"/>
                </a:lnTo>
                <a:lnTo>
                  <a:pt x="15181" y="3985"/>
                </a:lnTo>
                <a:lnTo>
                  <a:pt x="18854" y="7493"/>
                </a:lnTo>
                <a:lnTo>
                  <a:pt x="17018" y="7493"/>
                </a:lnTo>
                <a:lnTo>
                  <a:pt x="17018" y="12828"/>
                </a:lnTo>
                <a:cubicBezTo>
                  <a:pt x="17018" y="15596"/>
                  <a:pt x="14442" y="18155"/>
                  <a:pt x="11674" y="18155"/>
                </a:cubicBezTo>
                <a:lnTo>
                  <a:pt x="10011" y="18155"/>
                </a:lnTo>
                <a:cubicBezTo>
                  <a:pt x="7244" y="18155"/>
                  <a:pt x="4667" y="15596"/>
                  <a:pt x="466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561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1b60f"/>
                </a:solidFill>
                <a:latin typeface="Arial"/>
              </a:rPr>
              <a:t>Тема урока</a:t>
            </a: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: Функции желез эндокринной системы. Нарушения функций желез внутренней секреции.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395280" y="2997360"/>
            <a:ext cx="614376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Цель урока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1.Узнать, какие гормоны выделяют         железы эндокринной систем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.Выявить, какие заболевания        проявляются у человека при нарушении деятельности отдельных желез внутренней секреции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Презентацию составила учитель биологии МОУ «СОШ №18»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Рябухина Л. В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1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дпочечники: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мозговое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вещество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выделяет гормон-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адренали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5" name="" descr=""/>
          <p:cNvPicPr/>
          <p:nvPr/>
        </p:nvPicPr>
        <p:blipFill>
          <a:blip r:embed="rId1"/>
          <a:stretch/>
        </p:blipFill>
        <p:spPr>
          <a:xfrm>
            <a:off x="3348000" y="1557360"/>
            <a:ext cx="2448000" cy="3600360"/>
          </a:xfrm>
          <a:prstGeom prst="rect">
            <a:avLst/>
          </a:prstGeom>
          <a:ln w="0">
            <a:noFill/>
          </a:ln>
        </p:spPr>
      </p:pic>
      <p:sp>
        <p:nvSpPr>
          <p:cNvPr id="1576" name=""/>
          <p:cNvSpPr/>
          <p:nvPr/>
        </p:nvSpPr>
        <p:spPr>
          <a:xfrm>
            <a:off x="395280" y="5516640"/>
            <a:ext cx="187308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илив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рд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843280" y="5516640"/>
            <a:ext cx="163512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ширя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ронх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076720" y="5373720"/>
            <a:ext cx="1704960" cy="1224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выша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ртериаль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в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7020000" y="5229360"/>
            <a:ext cx="1944720" cy="1295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величив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л-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люко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1835280" y="4437000"/>
            <a:ext cx="201600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3708000" y="4437000"/>
            <a:ext cx="1429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3851280" y="4437000"/>
            <a:ext cx="1512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851280" y="4437000"/>
            <a:ext cx="35290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4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4" name=""/>
          <p:cNvGraphicFramePr/>
          <p:nvPr/>
        </p:nvGraphicFramePr>
        <p:xfrm>
          <a:off x="34920" y="434880"/>
          <a:ext cx="9109080" cy="6226200"/>
        </p:xfrm>
        <a:graphic>
          <a:graphicData uri="http://schemas.openxmlformats.org/drawingml/2006/table">
            <a:tbl>
              <a:tblPr/>
              <a:tblGrid>
                <a:gridCol w="1405080"/>
                <a:gridCol w="1296720"/>
                <a:gridCol w="1941480"/>
                <a:gridCol w="2233800"/>
                <a:gridCol w="223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м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нор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перфунк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пофунк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поф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м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уе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гант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ромегал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 у взрослы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карликовость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итовид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р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исления и обмена в-в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 и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зедов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ез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у взрослы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микседема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( у взрослы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кретин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у дете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желу-дочна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сул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держива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оя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глюкозы в кров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сахарн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аб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почечн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рена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иливает рабо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рдца, расширя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т  бронхи, увели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вает кол-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юкозы в кров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5" name=""/>
          <p:cNvSpPr/>
          <p:nvPr/>
        </p:nvSpPr>
        <p:spPr>
          <a:xfrm>
            <a:off x="879480" y="-53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">
            <a:hlinkClick r:id="rId1" action="ppaction://hlinksldjump"/>
          </p:cNvPr>
          <p:cNvSpPr/>
          <p:nvPr/>
        </p:nvSpPr>
        <p:spPr>
          <a:xfrm>
            <a:off x="7596360" y="551664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86" h="21600">
                <a:moveTo>
                  <a:pt x="1694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3886" h="21600">
                <a:moveTo>
                  <a:pt x="18048" y="14281"/>
                </a:moveTo>
                <a:lnTo>
                  <a:pt x="18048" y="12323"/>
                </a:lnTo>
                <a:cubicBezTo>
                  <a:pt x="18048" y="11496"/>
                  <a:pt x="18379" y="10800"/>
                  <a:pt x="18980" y="10800"/>
                </a:cubicBezTo>
                <a:cubicBezTo>
                  <a:pt x="20111" y="10800"/>
                  <a:pt x="21007" y="9434"/>
                  <a:pt x="21007" y="7849"/>
                </a:cubicBezTo>
                <a:cubicBezTo>
                  <a:pt x="21007" y="5534"/>
                  <a:pt x="19154" y="3794"/>
                  <a:pt x="16943" y="3794"/>
                </a:cubicBezTo>
                <a:cubicBezTo>
                  <a:pt x="14732" y="3794"/>
                  <a:pt x="13061" y="5534"/>
                  <a:pt x="13061" y="7849"/>
                </a:cubicBezTo>
                <a:lnTo>
                  <a:pt x="14915" y="7849"/>
                </a:lnTo>
                <a:cubicBezTo>
                  <a:pt x="14915" y="6709"/>
                  <a:pt x="15837" y="5821"/>
                  <a:pt x="16943" y="5821"/>
                </a:cubicBezTo>
                <a:cubicBezTo>
                  <a:pt x="18048" y="5821"/>
                  <a:pt x="18980" y="6709"/>
                  <a:pt x="18980" y="7849"/>
                </a:cubicBezTo>
                <a:cubicBezTo>
                  <a:pt x="18980" y="8589"/>
                  <a:pt x="18510" y="9320"/>
                  <a:pt x="18048" y="9320"/>
                </a:cubicBezTo>
                <a:cubicBezTo>
                  <a:pt x="16943" y="9320"/>
                  <a:pt x="15837" y="10800"/>
                  <a:pt x="15837" y="12323"/>
                </a:cubicBezTo>
                <a:lnTo>
                  <a:pt x="15837" y="14281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5410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репление: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выполните тест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843444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 При недостаточной работе щитовидной железы развива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сахарный диабет                     в) миксед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базедова болезнь                    г) ни одна из болез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Гигантизм возникает при избытке гормо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надпочечников                        в) половых желе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щитовидной железы               г) гипофи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 Адреналин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расширяет бронхи                  в) способствует выходу глюко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активизирует работу                      в кров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рдца                                    г) оказывает все дейст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. Тироксин - это горм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гипофиза                                 в) надпочеч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щитовидной железы               г) зобной желе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ВЕТЫ:    1в, 2г, 3г, 4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5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Информационные источники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лесов Д. В. И др. Биология. Человек: Учебник для 8 кл.-М.: Дрофа,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лектронное средство учебного назначения. Биология          6-9 кл. Кирилл и Мефод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лектронное средство учебного назначения. Биология        6-11 кл. ООО  «Физикон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крытая биология 2.5. ООО «Физикон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лектронный атлас для школьников. Анатомия. 8-9 к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О «Новый диск», 200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Black"/>
              </a:rPr>
              <a:t>Повторение пройденного материала: </a:t>
            </a:r>
            <a:r>
              <a:rPr b="0" lang="en-US" sz="1800" spc="-1" strike="noStrike">
                <a:solidFill>
                  <a:srgbClr val="ffffcc"/>
                </a:solidFill>
                <a:latin typeface="Arial Black"/>
              </a:rPr>
              <a:t>Какие вы знаете железы внутренней секреции? Укажите их месторасположение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1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905440" cy="469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03120" y="6303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200760" y="6308640"/>
            <a:ext cx="27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ерь свои зн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71640" y="333360"/>
            <a:ext cx="720072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К какой группе относятся представленные в первой колонке железы?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ч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ипоф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люнные желе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овые желе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дпочеч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товые желе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елезы внешней секре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елезы внутренней секре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К какой группе относятся представленные в первой колонке железы?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ч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ипофи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люнные желе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овые желе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дпочеч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товые желе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елезы внешней секре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елезы внутренней секре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2700360" y="2133720"/>
            <a:ext cx="230328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771640" y="2708280"/>
            <a:ext cx="2232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4284720" y="2276280"/>
            <a:ext cx="64764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4140360" y="3645000"/>
            <a:ext cx="86328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4140360" y="2276640"/>
            <a:ext cx="8632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780000" y="4221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3780000" y="3789000"/>
            <a:ext cx="1223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4788000" y="4724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4211640" y="5300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4067280" y="2276640"/>
            <a:ext cx="1009440" cy="30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4788000" y="3789000"/>
            <a:ext cx="28872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en-US" sz="3700" spc="-1" strike="noStrike">
                <a:solidFill>
                  <a:srgbClr val="ffffb7"/>
                </a:solidFill>
                <a:latin typeface="Arial Black"/>
              </a:rPr>
              <a:t>Повторение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пройденного</a:t>
            </a:r>
            <a:r>
              <a:rPr b="1" lang="en-US" sz="3700" spc="-1" strike="noStrike">
                <a:solidFill>
                  <a:srgbClr val="ffffb7"/>
                </a:solidFill>
                <a:latin typeface="Arial Black"/>
              </a:rPr>
              <a:t> материала:</a:t>
            </a:r>
            <a:endParaRPr b="1" lang="en-US" sz="3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215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Чем отличаются железы внутренней секреции от желез внешней секрец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.Что такое гормо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. Какими свойствами обладают гормо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4.Дайте определение гуморальной регуля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5. Чем гуморальная регуляция отличается от нервной регуляц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Изучение нового материала:</a:t>
            </a:r>
            <a:br>
              <a:rPr sz="3600"/>
            </a:br>
            <a:r>
              <a:rPr b="0" lang="en-US" sz="2400" spc="-1" strike="noStrike">
                <a:solidFill>
                  <a:srgbClr val="420000"/>
                </a:solidFill>
                <a:latin typeface="Times New Roman"/>
              </a:rPr>
              <a:t>самостоятельная работа с текстом учебника и информацией на слайдах, заполнение итоговой таблицы.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539640" y="1916280"/>
          <a:ext cx="8166240" cy="4646520"/>
        </p:xfrm>
        <a:graphic>
          <a:graphicData uri="http://schemas.openxmlformats.org/drawingml/2006/table">
            <a:tbl>
              <a:tblPr/>
              <a:tblGrid>
                <a:gridCol w="1171800"/>
                <a:gridCol w="1344600"/>
                <a:gridCol w="1660320"/>
                <a:gridCol w="2054160"/>
                <a:gridCol w="1935360"/>
              </a:tblGrid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е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м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норм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ерфунк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офунк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офи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товид-ная желе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желуд-оч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е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почеч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робле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чему железы внутренней секреции называют маленькими органами большого значения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0" name="">
            <a:hlinkClick r:id="rId1" action="ppaction://hlinksldjump"/>
          </p:cNvPr>
          <p:cNvSpPr/>
          <p:nvPr/>
        </p:nvSpPr>
        <p:spPr>
          <a:xfrm>
            <a:off x="8172360" y="6021360"/>
            <a:ext cx="792360" cy="836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36640"/>
              <a:gd name="textAreaBottom" fmla="*/ 785520 h 83664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3794" y="8096"/>
                </a:moveTo>
                <a:lnTo>
                  <a:pt x="7301" y="8096"/>
                </a:lnTo>
                <a:lnTo>
                  <a:pt x="7301" y="13431"/>
                </a:lnTo>
                <a:cubicBezTo>
                  <a:pt x="7301" y="14354"/>
                  <a:pt x="8102" y="15085"/>
                  <a:pt x="9138" y="15085"/>
                </a:cubicBezTo>
                <a:lnTo>
                  <a:pt x="10800" y="15085"/>
                </a:lnTo>
                <a:cubicBezTo>
                  <a:pt x="11836" y="15085"/>
                  <a:pt x="12636" y="14354"/>
                  <a:pt x="12636" y="13431"/>
                </a:cubicBezTo>
                <a:lnTo>
                  <a:pt x="12636" y="8096"/>
                </a:lnTo>
                <a:lnTo>
                  <a:pt x="10800" y="8096"/>
                </a:lnTo>
                <a:lnTo>
                  <a:pt x="14308" y="4588"/>
                </a:lnTo>
                <a:lnTo>
                  <a:pt x="17981" y="8096"/>
                </a:lnTo>
                <a:lnTo>
                  <a:pt x="16144" y="8096"/>
                </a:lnTo>
                <a:lnTo>
                  <a:pt x="16144" y="13431"/>
                </a:lnTo>
                <a:cubicBezTo>
                  <a:pt x="16144" y="16199"/>
                  <a:pt x="13568" y="18758"/>
                  <a:pt x="10800" y="18758"/>
                </a:cubicBezTo>
                <a:lnTo>
                  <a:pt x="9138" y="18758"/>
                </a:lnTo>
                <a:cubicBezTo>
                  <a:pt x="6370" y="18758"/>
                  <a:pt x="3794" y="16199"/>
                  <a:pt x="3794" y="134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07:29:56Z</dcterms:created>
  <dc:creator>User</dc:creator>
  <dc:description/>
  <dc:language>en-US</dc:language>
  <cp:lastModifiedBy>Us</cp:lastModifiedBy>
  <dcterms:modified xsi:type="dcterms:W3CDTF">2010-03-07T06:02:37Z</dcterms:modified>
  <cp:revision>53</cp:revision>
  <dc:subject/>
  <dc:title>Тема урока: Функции желез эндокринной системы. Нарушения функций желез внутренней секреции</dc:title>
</cp:coreProperties>
</file>